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DDD0-C228-4E8D-83CD-52090623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14B-1FA8-4B64-B334-E7A8C5B9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399-9E6F-484B-A2B4-C51CE707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7206-2261-4757-B5AA-C56226BC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282-CDA3-4368-8A8D-0EBFDE26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8E4-E52A-4F20-B8EF-9379563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79E-EA5D-497C-9828-2BBE3303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2B7-9C93-4678-9C94-0A4077B4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F19-5FFB-417A-A991-4EE8B548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B40-7661-43DD-AE7A-457299D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743-44B1-4230-82A1-128C4C7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E98-1E23-499F-817C-82E14D4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7518-7AC4-45A6-85CC-EDF9D1E0F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gl.net.ru/wiki/index.php/&#1057;&#1077;&#1088;&#1074;&#1080;&#1089;&#1099;_&#1089;&#1086;&#1079;&#1076;&#1072;&#1085;&#1080;&#1103;_&#1083;&#1077;&#1085;&#1090;_&#1074;&#1088;&#1077;&#1084;&#1077;&#1085;&#1080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ipity.com/veselovaer/dt*005059a7e258f7ac/?mode=fs" TargetMode="External"/><Relationship Id="rId3" Type="http://schemas.openxmlformats.org/officeDocument/2006/relationships/hyperlink" Target="http://www.timetoast.com/timelines/1027833" TargetMode="External"/><Relationship Id="rId4" Type="http://schemas.openxmlformats.org/officeDocument/2006/relationships/hyperlink" Target="http://www.timetoast.com/timelines/tiger-tape" TargetMode="External"/><Relationship Id="rId5" Type="http://schemas.openxmlformats.org/officeDocument/2006/relationships/hyperlink" Target="http://www.myhistro.com/story/&#1074;&#1077;&#1083;&#1080;&#1082;&#1072;&#1103;-&#1086;&#1090;&#1077;&#1095;&#1077;&#1089;&#1090;&#1074;&#1077;&#1085;&#1085;&#1072;&#1103;-&#1074;&#1086;&#1081;&#1085;&#1072;/179969" TargetMode="External"/><Relationship Id="rId6" Type="http://schemas.openxmlformats.org/officeDocument/2006/relationships/hyperlink" Target="http://www.myhistro.com/story/&#1086;&#1079;&#1077;&#1088;&#1072;-&#1093;&#1072;&#1073;&#1072;&#1088;&#1086;&#1074;&#1089;&#1082;&#1086;&#1075;&#1086;-&#1082;&#1088;&#1072;&#1103;/180873/0/0/0/1" TargetMode="External"/><Relationship Id="rId7" Type="http://schemas.openxmlformats.org/officeDocument/2006/relationships/hyperlink" Target="http://whenintime.com/tl/veshelen/_d0_a1_d0_bb_d0_be_d0_b6_d0_bd_d1_8b_d0_b5__d1_8d_d1_84_d0_b8_d1_80_d1_8b___d0_96_d0_b8_d1_80_d1_8b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ты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дни из самых интересных сервисов веб 2.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сы служат для создания временно-событийных линеек. На временную шкалу наносятся факты, которые можно сохранить и использовать при изучении различных наук, если требуется представить хронологический порядок каких-либо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ленты могут сопровождаться не только текстовыми комментариями, но и встроенными фотографиями, видеороликами (с YouTube.c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ные ленты времени можно встроить на страницу сайта или блога с помощью HTML-к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обнее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gl.net.ru/wiki/index.php/Сервисы_создания_лент_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64576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50920" y="907920"/>
            <a:ext cx="8642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Dipit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дходит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eeTimeline – не подходит (нельзя вставить изобра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imerime – подходит, но пла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99 в месяц за простой пла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Timetoa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дходит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rstory - подходит, но не поддерживает кирил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pzles – не подходит, т.к. не показывает общую карт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WhenInTi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дходит пол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262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MyHis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т, автоматическое движение по карте с метк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melinemaker - подходит, но бесплатен только 7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ki-Toki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ит, предлагает просмотр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недостаточно прост для изучения и исполь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50920" y="508464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</a:rPr>
              <a:t>Эпоха Екатерины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Жизнь и творчество Л.Н. Толст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Главные битвы Великой Отечественной вой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Носител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Основные сражения Великой Отечественной вой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Озера Хабаровского кра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ложные эфи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Заголовок 1" descr=""/>
          <p:cNvPicPr/>
          <p:nvPr/>
        </p:nvPicPr>
        <p:blipFill>
          <a:blip r:embed="rId8"/>
          <a:stretch/>
        </p:blipFill>
        <p:spPr>
          <a:xfrm>
            <a:off x="2193840" y="4363920"/>
            <a:ext cx="45356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вис timetoast.com достаточно прост в освоении. Позволяет размещать в хронологическом порядке дату, описание, ссылку, а также добавлять изображение, видеоролики и фай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44640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360" y="259920"/>
            <a:ext cx="3836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Эпоха Екатерины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51920" cy="4681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190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3309840" cy="865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95280" y="112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нты, созданные в этом сервисе имеют четыре режима просмотра: классической  ленты, слайд-шоу, списка и кар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имуществом сервиса Dipity.com перед другими схожими является возможность организации совместной работы над одной лентой времени. Представление материалов в различном виде: лента времени, книга-презентация, список событий, карта с метками мест-соб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3887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Arial Black"/>
              </a:rPr>
              <a:t>Ленты времени</a:t>
            </a:r>
            <a:endParaRPr b="0" lang="en-US" sz="4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5560" y="2133720"/>
            <a:ext cx="821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вис TimeRime представляет собой веб-приложение, которое позволяет пользователям просматривать, создавать, обмениваться и сравнить интерактивные шкалу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imeRime стал популярным сайтом для школ и студентов, проводящих свои собственные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можно организовать индивидуально или в групп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латном использовании сервиса предоставляется ряд дополнительных функций: печать в формате PDF, настройка заголовков сайта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14360" y="189000"/>
            <a:ext cx="1781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01:04:34Z</dcterms:created>
  <dc:creator>Anna</dc:creator>
  <dc:description/>
  <dc:language>en-US</dc:language>
  <cp:lastModifiedBy>Вячеслав Утёмов</cp:lastModifiedBy>
  <dcterms:modified xsi:type="dcterms:W3CDTF">2016-03-27T19:08:06Z</dcterms:modified>
  <cp:revision>56</cp:revision>
  <dc:subject/>
  <dc:title>Инструменты разработчика ЭУМ</dc:title>
</cp:coreProperties>
</file>